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88D5D-6AFF-4E41-9B9D-F7E9143BF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77EC3-6259-4902-88F2-AC50CDA79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FBE0D-0E43-45FF-B3C6-78BAC834E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4ED9A-04ED-48C3-8DAE-8E3236400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D27E2-25FE-4987-A9DA-10E7FA884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9D6D5-B8F2-44C7-A7AC-D4A0BC52B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F8089-AEB2-4F39-B478-01A6C9A5E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6B40F-4962-40C7-8284-60A98A366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B5C7D-73DA-495F-AB3D-26CA30F2D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EE270-698F-4E30-A3BD-4AAEBEFC5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F3932-7935-439E-A6C4-CC80D70F6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BDFF4-81CA-4DF6-BEDE-CCE4FCF6B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0213-AFBA-4441-BE9D-3C166AD90A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7"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8" name="Picture 5" descr=""/>
          <p:cNvPicPr/>
          <p:nvPr/>
        </p:nvPicPr>
        <p:blipFill>
          <a:blip r:embed="rId1">
            <a:grayscl/>
          </a:blip>
          <a:stretch/>
        </p:blipFill>
        <p:spPr>
          <a:xfrm>
            <a:off x="5105520" y="160020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50"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5</cp:lastModifiedBy>
  <dcterms:modified xsi:type="dcterms:W3CDTF">2012-06-19T11:13:08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